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E10-C404-4EB9-801F-90C80709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FF55-938F-4421-9F1E-B6C04795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373-6BEE-4FDD-B38E-5DDDF47D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099-BA6E-424D-A7F4-E18ABB96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A9EF-919D-4343-B209-A225F6DD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5D70-94A5-47BE-A798-65AC69E7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37EF-2E31-445E-8ED7-64058A04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4301-7AD4-467E-AC5B-705676F3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9074-ED30-4EFC-8F44-4F5EFF36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8304-9380-4406-B966-BB241D13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1645-327B-4FAE-84F2-D960D363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A22-2376-4DC3-ADDE-19555FAB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CE30-9FBF-4FBA-B12A-B787655D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51076-7494-4C2B-89E1-6C2970D4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1BCD-5F2D-4DB0-9C9E-A3D6C648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B1DE-01B5-49AC-89F7-60B97680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D30D-46D2-4228-A48F-4F310A26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1288-DDE0-480F-9263-811754D5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B044-CA2F-4C88-9096-61CDBE5F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8F8-BDB4-4A08-9044-76412FF7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C94B-09AF-4493-8A4E-7A83816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7049-18C4-4177-81D8-D0AD6D86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38D4-12F2-4231-9CEF-15D5CA40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47E-22B9-4B3F-BCEB-6D4A3848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E212-B9B7-441B-8E9F-E9A5025B0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B07B-148E-41FB-8F26-7251C6EBC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rtleby.com/142/1019.html#193.6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bartleby.com/142/1019.html#193.14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artleby.com/142/1019.html#193.2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HE CIVIL WAR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861-186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590920"/>
            <a:ext cx="246672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SEQUEN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d of slav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 million slaves fre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vil War amendments (13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5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20,000 Americans dead (5mm toda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truction of land in Sou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tter feelings on both s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RECONSTRUCTION TASK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ut the nation back together politically, economically, socially, psychological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ve the freed people the tools for freedo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uarantee the new rights of the freed peop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cide whether the President or Congress would lead Reconstru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9740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2120" y="1905120"/>
          <a:ext cx="7696080" cy="5310000"/>
        </p:xfrm>
        <a:graphic>
          <a:graphicData uri="http://schemas.openxmlformats.org/drawingml/2006/table">
            <a:tbl>
              <a:tblPr/>
              <a:tblGrid>
                <a:gridCol w="7238880"/>
                <a:gridCol w="45720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ptain! My Captain! by Walt Whitm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PTAIN! my Captain! our fearful trip is don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ip has weather’d every rack, the prize we sought is wo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rt is near, the bells I hear, the people all exulting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le follow eyes the steady keel, the vessel grim and darin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O heart! heart! heart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the bleeding drops of </a:t>
                      </a:r>
                      <a:r>
                        <a:rPr b="0" lang="en-US" sz="2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hlinkClick r:id="rId1"/>
                        </a:rPr>
                        <a:t>red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on the deck my Captain li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en cold and de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905120"/>
          <a:ext cx="7696080" cy="4255920"/>
        </p:xfrm>
        <a:graphic>
          <a:graphicData uri="http://schemas.openxmlformats.org/drawingml/2006/table">
            <a:tbl>
              <a:tblPr/>
              <a:tblGrid>
                <a:gridCol w="7388280"/>
                <a:gridCol w="307800"/>
              </a:tblGrid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Captain! my Captain! rise up and hear the bells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e up—for you the flag is flung—for you the bugle trills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you bouquets and ribbon’d wreaths—for you the shores a-crowding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you they call, the swaying mass, their eager faces turning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 Captain! dear father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arm beneath your </a:t>
                      </a:r>
                      <a:r>
                        <a:rPr b="0" lang="en-US" sz="2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hlinkClick r:id="rId1"/>
                        </a:rPr>
                        <a:t>head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is some dream that on the deck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’ve fallen cold and de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SSASSINATION OF LINCOL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09800" y="1717560"/>
          <a:ext cx="7124400" cy="3772080"/>
        </p:xfrm>
        <a:graphic>
          <a:graphicData uri="http://schemas.openxmlformats.org/drawingml/2006/table">
            <a:tbl>
              <a:tblPr/>
              <a:tblGrid>
                <a:gridCol w="6813360"/>
                <a:gridCol w="31104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Captain does not answer, his lips are pale and stil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father does not feel my arm, he has no pulse nor will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hip is anchor’d safe and sound, its voyage closed and done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fearful trip, the victor ship, comes in with object won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ult, O shores, and ring, O bells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I, with </a:t>
                      </a:r>
                      <a:r>
                        <a:rPr b="0" lang="en-US" sz="2000" spc="-1" strike="noStrike" u="sng">
                          <a:solidFill>
                            <a:srgbClr val="99cc00"/>
                          </a:solidFill>
                          <a:uFillTx/>
                          <a:latin typeface="Arial"/>
                          <a:hlinkClick r:id="rId1"/>
                        </a:rPr>
                        <a:t>mournful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tread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he deck my Captain lies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en cold and dea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011240" y="472716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3344760" cy="459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803680" y="628488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Abraham Linco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70640" y="990720"/>
            <a:ext cx="5235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46640" cy="3654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5791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Ulysses S.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43200" y="1676520"/>
            <a:ext cx="3583080" cy="4626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42240" y="6324480"/>
            <a:ext cx="41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William Tecumseh Sher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3957480" cy="4632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1960" y="3541680"/>
            <a:ext cx="19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man on S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Atl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AUS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estward expan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ailure of political compromi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titutional crisi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ultur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75240" cy="4594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59920" y="6284880"/>
            <a:ext cx="30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George McClel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3610080" cy="4569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729160" y="6361200"/>
            <a:ext cx="31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Jefferson Da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37292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728440" y="636120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obert E.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99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336840" cy="4616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6400" y="388620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e on Trav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88200" y="3922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son on Little S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Johnny Reb &amp; Billy Yan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1672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PLAYERS: Billy Yank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071880" cy="3659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757600" cy="3702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429000" y="281952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THE PLAYERS: Johnny Reb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2313000" cy="2735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695760" cy="3257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124080" y="2362320"/>
            <a:ext cx="1663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NTIETAM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862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GETTYSBUR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699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TLANTA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40129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HARACTERISTIC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modern wa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ss arm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igh casual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vilian targe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ifle, trench, telegrap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e of railroad to move troop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hotograph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RRENDER AT APPOMATTOX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2212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URRENDER AT APPOMATTOX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7402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SEQUENC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nd of slave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 million slaves fre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vil War amendments (13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4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, 15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620,000 Americans dead (5mm toda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struction of land in South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itter feelings on both sid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NOR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ailroa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acked clear motiv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aconda Pla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ade Southern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pture Mississippi River, invade &amp; split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pture Rich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HE SOUTH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ghting on home grou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ilitary trad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killed genera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maller popul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indust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 railroa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fensive war of attri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MPARISON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1246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KEY BATTL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Bull Ru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hancellorsvill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Vicks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tlant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etersburg/Richm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MILESTON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etam &amp; Emancipation Procla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erman’s March Through 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nt’s Virginia Campa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rrender at Appomatto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coln’s Second Inaugur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judgments of the Lord are true and righteous altogeth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malice toward none, with charity for 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let us . . .bind up the nation’s wounds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39:46Z</dcterms:created>
  <dc:creator>epilla</dc:creator>
  <dc:description/>
  <dc:language>en-US</dc:language>
  <cp:lastModifiedBy>epilla</cp:lastModifiedBy>
  <dcterms:modified xsi:type="dcterms:W3CDTF">2011-12-01T19:03:19Z</dcterms:modified>
  <cp:revision>15</cp:revision>
  <dc:subject/>
  <dc:title>THE CIVIL WAR</dc:title>
</cp:coreProperties>
</file>